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0665-6800-4045-AFD0-9003E54AD83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9B00-E765-4231-8FEC-FA7FBC8CAE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iagnostic Assessment of student understanding of st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EBD-05D1-4BB3-8931-F8F0E4B5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1AC-5BF9-444A-A7B9-A7A3E0EF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FEC-441C-43D1-915D-D54013DE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145-CAE7-46DE-A8A9-8DC9E741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3F2A-6499-43F3-9019-9BD212D0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855-A979-435D-BF33-59284478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4EAA-9E78-4FD3-83EF-E2930A81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8178-5CEB-4A0D-BA5F-D1FBB3F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F610-A326-45AD-B478-DA86C54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5E7-C6EE-486F-8A1B-4A37788F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627C-F421-4E74-A819-820AC11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2FB-A4A8-4A54-9CBC-D1DF19FB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01E3-0A39-4A4C-B7EE-383588AD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6E6C-1AC8-4624-A7B3-831185C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B830-628E-463E-9CE3-F0FAF4E2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884E-3443-4F8A-9B77-296EC33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1599-21CB-4A66-9ED4-3588979C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1E51-24E0-4C02-88ED-44C59EC6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E50B-46FF-4F99-8473-DB75764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F1A5-FA53-482D-92AB-135DD52E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79E8-1C87-4483-946F-C09807A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AF1D-4251-4A97-B0F2-CD969DE2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28F-5266-4021-8419-029C1D4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6236-B349-4B97-A21C-50AE4B3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D4A3-7B03-4A86-9339-FA8B861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5AA4-EAC4-4E00-8D08-2C02346F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F685-057D-4F6C-9997-4E196AB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6B40-AD78-4C39-8A16-6FDC1064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9CA6-E3CB-4494-8DBD-D584159D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5E12-8E6C-44F8-89DB-BCFB9848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8C09D-0F78-4504-98F4-49A1FD0B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60754-885F-41A2-91A7-F00E8F91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07DC-EB82-42A5-8416-7729DAC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10F-4131-45C9-B73B-765DD391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3C84-EA53-4F2D-B00D-E20D3E54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1110-7F78-4114-9956-5FEF45C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CC51-242F-4B47-AEDD-D54CC20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F345-5CA2-4052-94B4-5C6D054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64EF-2D74-4996-9588-49864AC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B5B2-BC95-47A0-BB6D-6EE2B566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FCE80-1F33-4DF0-9165-6C40E260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432E5-4E72-4FDB-8F43-E4F7A8AE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B849-9C8C-4640-A554-EE885609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F379-0B5C-4AF8-808B-6B9092C2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139-5670-4198-815E-728C75B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3B80-057B-4DFE-872C-10B55A9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20E1B-C57F-4BC9-A9CC-1B54C6A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E00E-763B-4058-B7D8-903EEBB7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5172-CA95-47DA-AE1C-1DF3F310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825B-833A-4E34-99B2-1A7028D0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9706-8EC0-40F4-806A-1089BE9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ECD1-F817-4139-ABFA-CB41100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BF8FD-E438-4C4B-8A5C-8397C731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C908-5CF6-4255-971B-96400783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0CC8-F793-42B7-A9B1-A840DCD8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19C-28EC-4876-A8AE-409BA13B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FD92-8EC8-444E-88F5-8EAC86D6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0BBF-30A9-4BF0-9704-4D9C9A9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6E55F-8EF3-46E3-97CA-9A5B319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654C2-9FE8-439E-88E5-2542974F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EAFC3-931F-4B36-90BE-19396647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9486-1C4E-4054-93E3-18728C7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20CA-CFE6-4B0E-B603-24EE80CA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D1CB-F039-42B2-8EBA-A2B22E5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4BCB-54EB-47B1-B58A-5492CF2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D1E5-B3E7-4FDB-8B89-944B4EAD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88E-7995-4035-8ACF-7ECC491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B1C7-64C7-4F24-9601-EF322360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AAF8D-70CB-47FD-BC99-DB313C4F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CC27-714B-4A66-909A-AA0D8A77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A3E0B-02D7-4A73-BED6-1A833FAB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83171-39CB-48F8-9769-C9FD1230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E22B-B751-42D4-BA35-12EC665C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8D02-FB28-4D20-88D7-FB1B9425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70B7-1093-4278-9F60-0DEC1E5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D68D-0BD9-4B25-9288-97B7A8B9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6259-4962-42A4-917F-3533487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D3B-2155-4C5B-A2AE-B0A96B1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3BEB0-659D-4FC0-9DBC-153405A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D622-5D54-468F-A06F-CF56085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7548-2569-429B-A304-18EDD72B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CE4B-233B-4C04-B5B0-84F414B9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F07B-CEF5-48BA-A569-90B4A5F3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430-6F79-45BD-AE83-0BE7EEA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6C9-B223-4FEC-9DF6-08C1D0282F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5102-8A4D-49A8-9D32-62B2DA3A01F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B3F-E42A-462D-823A-736F62BC3C7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B2F-592C-43A6-A7DD-01A88796DAB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BF3E-4CD2-4198-80B5-24A3CB58477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FDE6-9D5F-43DB-9327-470CCD42558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DD19-6EA6-448C-B974-119CE4CD595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OICHIOMET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OISE Senior Chemistry AQ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Concept Presentation – November 9, 201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Presented by Wendy Loui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5" descr="C:\Profiles\ICW087-PAF.ICICLE.062\Local Settings\Temporary Internet Files\Content.IE5\5Z9UOFNT\MP900399578[1].jpg"/>
          <p:cNvPicPr/>
          <p:nvPr/>
        </p:nvPicPr>
        <p:blipFill>
          <a:blip r:embed="rId1"/>
          <a:stretch/>
        </p:blipFill>
        <p:spPr>
          <a:xfrm>
            <a:off x="2895480" y="2268360"/>
            <a:ext cx="1096920" cy="1484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Profiles\ICW087-PAF.ICICLE.062\Local Settings\Temporary Internet Files\Content.IE5\5Z9UOFNT\MC900434868[1].png"/>
          <p:cNvPicPr/>
          <p:nvPr/>
        </p:nvPicPr>
        <p:blipFill>
          <a:blip r:embed="rId2"/>
          <a:stretch/>
        </p:blipFill>
        <p:spPr>
          <a:xfrm>
            <a:off x="4191120" y="1981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3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Use the balanced equation to set up a molar ratio: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 mole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2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=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2 moles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H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3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0.133 moles                     x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x   =  0.266 moles of ammonia produced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4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onvert moles of the desired product to mass requir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alculate the mass of ammonia in 0.266 mole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(g).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The atomic mas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= 14.007 u + 3 (1.008 u)  = 17.031 u  = 17.031 g / mol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Set up a ratio to convert moles to mass:                 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7.013 g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=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x  gram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1 mol                   0.266 mole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x  =  4.53 g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Concluding Statement: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From 3.75 g of nitrogen, 4.53 g of ammonia are produc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ndara"/>
              </a:rPr>
              <a:t>Student Demonstration: Explaining the Quantitative Relationships Expressed in Balanced Equations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118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o summarize the information learned about calculations and to assist students make the connection between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acroscopic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icroscopic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levels of reactions have them develop a table similar to the following using the previous reaction or they can use another reactio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 materials they will have available to demonstrate and teach their learning to the class about their tables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jellybeans of 3 different colours (one for each element; to represent particles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mini ‘mole’ animal toy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sca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 from molecular kit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y can then present their tables to the class to explain the relationship between number of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Mole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Gra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Molecu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Particles …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48320" y="1600200"/>
          <a:ext cx="3632040" cy="4997160"/>
        </p:xfrm>
        <a:graphic>
          <a:graphicData uri="http://schemas.openxmlformats.org/drawingml/2006/table">
            <a:tbl>
              <a:tblPr/>
              <a:tblGrid>
                <a:gridCol w="1212840"/>
                <a:gridCol w="1209600"/>
                <a:gridCol w="1209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.75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79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4.53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1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39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26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 &a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c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7.86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2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.35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.60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70866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7543800" y="2666880"/>
            <a:ext cx="3808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1752120"/>
            <a:ext cx="7408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3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ake up homework problems on Using Molar mass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4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Handouts, Mole Ratio, Review definitions and concepts by preparing Concept Map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5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GIZMOs© computer program to Solve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6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eer Activity ‘Developing Flowcharts to Solve Problems’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uiz - ‘Definitions in Stoichiometry’ and Calculations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 &amp; 8: </a:t>
            </a: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Introduce ‘Actual &amp;Theoretical Yield - Limiting Reactant’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Lesson 9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Lab - Reaction between aqueous copper (II) sulfate and iron. (see the File ‘Stoichiometry Lab’).   Students will conduct lab to determine the amount of product produced and the percent yiel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0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Molar Volum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1: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i)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nit Review (Groups prepare a Concept Attainment Chart on ‘Stoichiometry’) and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i) S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art Culminating Task: Stoichiometric Applications in Industry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Additional Lessons Within the Unit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 Difficulties &amp; Assessment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1676520"/>
            <a:ext cx="7408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Difficulties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 (see summary handout for potential solutions the teacher can use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A)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ue to the multi-step calculations required to solve mole-to-mass conversion word problems students may experience difficulty organizing their information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B) Students belie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the coefficients in the balanced equation relate the masses of the substance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C) 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Students believe that c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hanging the coefficient for a substance changes the molar mas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) The chemical vocabulary associated with these operations may prevent the students from applying their mathematical skills to chemical phenomena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Assessment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iagnostic Assessment: pre-unit quiz, Hamburger Sandwiches problem, and ammonia reaction probl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rmati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Assessment: Homework, Gizmos work, Concept Attainment Strategy and class participation, Lab Report results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Summative Assessment: Unit test, quiz, Culminating Task</a:t>
            </a:r>
            <a:r>
              <a:rPr b="0" lang="en-CA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Expectations Addressed from the </a:t>
            </a:r>
            <a:r>
              <a:rPr b="1" lang="en-CA" sz="1400" spc="-1" strike="noStrike">
                <a:solidFill>
                  <a:srgbClr val="000000"/>
                </a:solidFill>
                <a:latin typeface="Candara"/>
              </a:rPr>
              <a:t>‘Quantities in Chemical Reactions’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Strand of Grade 11 Chemistry – University Preparation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2.5 Calculate the corresponding mass, or quantity in moles or molecules, for any given reactant or product in a balanced chemical equation as well as for any other reactant or product in the chemical reaction [AI]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3.4 Explain the quantitative relationships expressed in a balanced chemical equation, using appropriate units of measure (e.g., moles, grams, atoms, ions, molecules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Key concept students will learn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The coefficients of a chemical equation are the basis for interpreting and predicting quantitative relationships in chemical reactions (stoichiometry)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By the end of the unit students should be able to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)  Determine the amount of any substance in a reaction, given the amount of any other substance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i) Determine the mass of any substance in a reaction, given the amount or mass of any other substanc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ndara"/>
              </a:rPr>
              <a:t>Expectations &amp; Key Concep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</a:t>
            </a:r>
            <a:r>
              <a:rPr b="1" lang="en-CA" sz="1600" spc="-1" strike="noStrike">
                <a:solidFill>
                  <a:srgbClr val="073e87"/>
                </a:solidFill>
                <a:latin typeface="Candara"/>
              </a:rPr>
              <a:t>mole concept is introduced and used in stoichiometric calculation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Students learn to convert the mass of a substance to the number of particles and the number of moles of the substance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mole concept is the link that </a:t>
            </a:r>
            <a:r>
              <a:rPr b="0" i="1" lang="en-CA" sz="1600" spc="-1" strike="noStrike">
                <a:solidFill>
                  <a:srgbClr val="073e87"/>
                </a:solidFill>
                <a:latin typeface="Candara"/>
              </a:rPr>
              <a:t>relates the macroscopic measurement of mass or volume with the submicroscopic number of particle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llowing is an </a:t>
            </a:r>
            <a:r>
              <a:rPr b="1" lang="en-CA" sz="1600" spc="-1" strike="noStrike">
                <a:solidFill>
                  <a:srgbClr val="000000"/>
                </a:solidFill>
                <a:latin typeface="Candara"/>
              </a:rPr>
              <a:t>overview of the lesson sequences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 for the unit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cus of this presentation will be on Lessons 2- 4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It will be presented in depth since this lesson represents the expectations to be addressed (D 2.5 and D 3.4) and concepts to be learned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.  The lab, Gizmos lab work period, and Peer Activity ‘Developing Flowcharts to Solve Problems’ also address these expectations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5334120" y="1546200"/>
            <a:ext cx="919080" cy="61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C:\Profiles\ICW087-PAF.ICICLE.062\Local Settings\Temporary Internet Files\Content.IE5\5Z9UOFNT\MC900439407[1].jpg"/>
          <p:cNvPicPr/>
          <p:nvPr/>
        </p:nvPicPr>
        <p:blipFill>
          <a:blip r:embed="rId2"/>
          <a:stretch/>
        </p:blipFill>
        <p:spPr>
          <a:xfrm>
            <a:off x="7010280" y="1219320"/>
            <a:ext cx="1349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Hook : </a:t>
            </a: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‘Hamburger Sandwiches’ Problem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ntroduce the ‘Hamburger Sandwiches’ problem as an Investigation for students to solve without teacher assistance.  This problem links their understanding of balanced equations, masses of reactants and products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o the concept of converting moles to mass in chemical equations.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Lesson courtesy of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Journal of Chemical Education Vol. 80 No. 9 September 2003 - see pdf file attached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‘</a:t>
            </a: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Hamburger Sandwiches’ Problem             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1: Understanding Formulas and the Use of Equation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principal has organized a school meeting and you are charged with ordering lunch from a hamburger chain called Burger Chem that makes sandwiches using two or three identical slices of brea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You ordered 100 MacChem sandwiches, but somebody made a mistake and 100 HambChem and 100 CheeseChem were delivered instead. You need to convert these other types of sandwiches into 100 MacChem before the principal notices the error.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How many HambChem and CheeseChem do you need to obtain 100 MacChem sandwiches if compositions are: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HambChem: 2 slices of bread (B) and 2 hamburgers (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CheeseChem: 2 slices of bread and 2 slices of cheese (C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MacChem: 3 slices of bread, 2 hamburgers, and 1 slice of cheese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2: Understanding Mass Conserva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What is the mass of 100 MacChem sandwiches? Is there any relationship between the mass of 100 MacChem sandwiches and the masses of 100 HambChem plus 50 CheeseChem?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Data: mass of each slice of bread (B), 25 g; mass of each hamburger (H), 80 g; mass of each cheese slice (Ch), 15 g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7315200" y="2590920"/>
            <a:ext cx="919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Student Exploration to Discover How to Use</a:t>
            </a:r>
            <a:r>
              <a:rPr b="0" lang="en-CA" sz="3600" spc="-1" strike="noStrike">
                <a:solidFill>
                  <a:srgbClr val="000000"/>
                </a:solidFill>
                <a:latin typeface="Candara"/>
              </a:rPr>
              <a:t> Molar Masses in Stoichiometric Problems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llowing the ‘Hamburger Sandwiches’ problem, the teacher can allow the students to work in groups on the following problem to observe their problem solving skills (diagnostic assessment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If 3.75 grams of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itrogen gas are used in the following reaction, are 3 x 3.75 grams of hydrogen gas required for the reaction to occur completely?  Why or Why not?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The teacher can provide the following hints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Convert the macroscopic information / numbers (large-scale) to the microscopic numbers (small-scale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You need to use the molar mass of a compound (microscopic) to find its actual / real (macroscopic) mass”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209320"/>
            <a:ext cx="74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Depending on student success and progress with the previous problem, the teacher can  present the following steps to help students organize their solution proces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andara"/>
              </a:rPr>
              <a:t>Four steps required to solve stoichiometric problems (Algorithm)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1. Write the balanced equation for the reaction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2. Convert the given mass or volume of a reactant or product to mole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3. Use the coefficients in the balanced equation to set up the appropriate mole ratio and multiply to     calculate moles of the desired reactant or product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4. Convert moles of the desired reactant or product to mass or volume require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73e87"/>
                </a:solidFill>
                <a:latin typeface="Candara"/>
              </a:rPr>
              <a:t>OR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Alternatively students could use the GRASS / GRASP (Given, Required, Analysis, Solution, 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Sentence /Phrase) metho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Providing Algorithms to Assist with Problem Solving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Profiles\ICW087-PAF.ICICLE.062\Local Settings\Temporary Internet Files\Content.IE5\NDCBJD59\MP900411803[1].jpg"/>
          <p:cNvPicPr/>
          <p:nvPr/>
        </p:nvPicPr>
        <p:blipFill>
          <a:blip r:embed="rId1"/>
          <a:stretch/>
        </p:blipFill>
        <p:spPr>
          <a:xfrm>
            <a:off x="7467480" y="251460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1981080"/>
            <a:ext cx="740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 u="sng">
                <a:solidFill>
                  <a:srgbClr val="000000"/>
                </a:solidFill>
                <a:uFillTx/>
                <a:latin typeface="Candara"/>
              </a:rPr>
              <a:t>Topic 1: Predicting the Mass of a Reactan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now conduct formal ‘scientific’ calculations using the following reaction.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: Calculate the mass of the second reactant in the reaction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How many grams of hydrogen gas are required for 3.75 grams of nitrogen gas to react completely?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Calculate the number of mole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gas in 3.75 grams of nitroge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atomic mas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is 14.007 u.  There are 2 nitrogen atoms, therefore 28.014 u = 28.014 g / mol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number of moles in 3.75 g of nitrogen:           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8.014 g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=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3.75 g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          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13 moles of nit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3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e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reacts with 3 moles of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o the number of moles of hydrogen required = 0.13 x 3 = 0.39 mole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4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moles of the desired reactant or product to mass or volume requir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Molar mass of hydrogen = 2 x 1.008 u = 2.016 u = 2.016 g /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mass of hydrogen in 0.39 mole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.016 g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=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0.39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79 g of hyd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Concluding statement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3.75 g of nitrogen requires 0.79 g of hydrogen to react completely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828440"/>
            <a:ext cx="7408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73e87"/>
                </a:solidFill>
                <a:uFillTx/>
                <a:latin typeface="Candara"/>
              </a:rPr>
              <a:t>Topic 2: Predicting the Mass of a Produ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attempt to calculate the mass of the product given questions such as...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What mass of ammonia is formed when 3.75 g of nitrogen gas reacts with hydrogen gas?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Earlier we calculated that 3.75 grams of nitrogen contain 0.133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2:42:54Z</dcterms:created>
  <dc:creator>user</dc:creator>
  <dc:description/>
  <dc:language>en-US</dc:language>
  <cp:lastModifiedBy>user</cp:lastModifiedBy>
  <dcterms:modified xsi:type="dcterms:W3CDTF">2011-11-09T17:06:50Z</dcterms:modified>
  <cp:revision>29</cp:revision>
  <dc:subject/>
  <dc:title>Stoichiometry</dc:title>
</cp:coreProperties>
</file>